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707-BFBB-4DDF-88DD-86427785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C61-C9F5-452B-83C5-EEE6AF39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73F3-BE0A-4801-A06D-C6539212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25C-022D-4074-B508-E99497B6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766-8FE0-4F92-8FC0-E69ED71D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571-A389-4DAC-A9D1-FADF2290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C5A-FBD0-48DF-B204-803DC4A0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39B-8A59-4712-81E4-2C6F75B7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5E6-D03A-4A82-B8BE-FE2F1B15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357-350A-4F6F-9C3D-7B04ADD2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FFE-3755-45B6-8158-93DB829A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92C-F0EE-4635-92FF-A69F3C23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D44A-DD2E-48A1-A025-B96144BF54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gym1belovo.narod.ru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640" y="1989000"/>
            <a:ext cx="446256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ерои нашего времени</a:t>
            </a:r>
            <a:br>
              <a:rPr sz="40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(исследовательский проект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Выполни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Прощенко Дмитрий Евгеньевич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ученик 7 «А»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МБНОУ «Гимназия №1 имени Тасирова Г.Х. города Белово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900000" y="27612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39640" y="4762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РОССИЙСКИЙ ФЕСТИВАЛЬ ТВОРЧЕСКИХ ОТКРЫТИЙ И ИНИЦИАТИВ «ЛЕОНАРДО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6" descr="I:\Новая папка\DSC06292.JPG"/>
          <p:cNvPicPr/>
          <p:nvPr/>
        </p:nvPicPr>
        <p:blipFill>
          <a:blip r:embed="rId1"/>
          <a:stretch/>
        </p:blipFill>
        <p:spPr>
          <a:xfrm>
            <a:off x="468360" y="1268280"/>
            <a:ext cx="35575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Лев Викторович Ковылин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(1970-2006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9" descr="DSC06577"/>
          <p:cNvPicPr/>
          <p:nvPr/>
        </p:nvPicPr>
        <p:blipFill>
          <a:blip r:embed="rId1"/>
          <a:stretch/>
        </p:blipFill>
        <p:spPr>
          <a:xfrm>
            <a:off x="4716360" y="1989000"/>
            <a:ext cx="3078360" cy="410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925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емья Ковылины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1360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Школьные го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5530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ечты сбылись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Рисунок 3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4883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роки и этапы реализации проекта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ретий  этап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(2013-2014гг.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ь: формирование «исторической памяти» у подрастающего поко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Воспитание у школьников гордости за свою страну и свой народ на конкретных примерах поступков выпускников гимназ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Формирование активной гражданской позиции, готовности к защите своей Род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Информацию о проекте вы можете узнать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йт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имназии №1 г. Бело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gym1belovo.narod.ru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йт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авилон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ik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- </a:t>
            </a:r>
            <a:r>
              <a:rPr b="0" lang="en-US" sz="3200" spc="-1" strike="noStrike">
                <a:solidFill>
                  <a:srgbClr val="70ffff"/>
                </a:solidFill>
                <a:latin typeface="Tahoma"/>
              </a:rPr>
              <a:t>http://babylon.wiki-wiki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иглашаем к сотрудничеству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6"/>
          <p:cNvSpPr/>
          <p:nvPr/>
        </p:nvSpPr>
        <p:spPr>
          <a:xfrm>
            <a:off x="5219640" y="1916280"/>
            <a:ext cx="3600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Прощенко Дмитрий Евгеньевич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ученик 7 «А»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МБНОУ «Гимназия №1 имени Тасирова Г.Х. города Белово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Кемеровской обл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332000" y="5084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сибо за внимание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6" descr="I:\Новая папка\DSC06292.JPG"/>
          <p:cNvPicPr/>
          <p:nvPr/>
        </p:nvPicPr>
        <p:blipFill>
          <a:blip r:embed="rId1"/>
          <a:stretch/>
        </p:blipFill>
        <p:spPr>
          <a:xfrm>
            <a:off x="539640" y="981000"/>
            <a:ext cx="355752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бор и систематизация материалов о выпускниках гимназии, участвовавших в Чеченской войне и контртеррористических операция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Провести социологическое исследование с целью выявления уровня знаний учащихся разных классов о выпускниках гимназии, участвовавших в Чеченской вой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оказать героизм воинов-патриотов на примере участия в боевых действиях и контртеррористических операциях в Чечне конц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чал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X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Распространять информацию о выпускниках – героях гимназии №1 города Белово Кемеровской обла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роки и этапы реализации проекта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Первый этап </a:t>
            </a:r>
            <a:br>
              <a:rPr sz="4000"/>
            </a:br>
            <a:r>
              <a:rPr b="1" lang="ru-RU" sz="3200" spc="-1" strike="noStrike" u="sng">
                <a:solidFill>
                  <a:srgbClr val="e5ffff"/>
                </a:solidFill>
                <a:uFillTx/>
                <a:latin typeface="Tahoma"/>
              </a:rPr>
              <a:t>(сентябрь - декабрь 2011г.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оведение социологического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исследования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, доказывающее актуальность и востребованность знаний о выпускниках гимназии, участвовавших и погибших в Чеч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просный лист </a:t>
            </a:r>
            <a:br>
              <a:rPr sz="2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«Что вы знаете о Чеченской войне?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02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Знаете ли вы что – нибудь о Чеченской войне?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  / Н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Участвовали ли выпускники нашей гимназии в Чеченской войне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  / Нет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знаете, укажите имена 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Считаете ли вы их героями, примером для подражания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) Я не знаю их имена, но считаю их героя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) Я не считаю их героя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) Я их имена знаю, и для меня они пример для подраж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Из каких источников вы почерпнули информацию о чеченской войне и контртеррористических операциях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) Внеклассные мероприятия      г) Интернет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) Телевидение                          д) Периодическая печа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) Рассказы взрослых                 е) Книг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Из каких источников вы почерпнули информацию об участии беловчан в чеченской войне и контртеррористических операциях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) Внеклассные мероприятия      г) Интернет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) Телевидение                          д) Периодическая печа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) Рассказы взрослых                 е) Книг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зультаты опрос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5" name="Object 8"/>
          <p:cNvGraphicFramePr/>
          <p:nvPr/>
        </p:nvGraphicFramePr>
        <p:xfrm>
          <a:off x="179280" y="1989000"/>
          <a:ext cx="4327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327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9"/>
          <p:cNvGraphicFramePr/>
          <p:nvPr/>
        </p:nvGraphicFramePr>
        <p:xfrm>
          <a:off x="4757760" y="1844640"/>
          <a:ext cx="4386240" cy="446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7760" y="1844640"/>
                    <a:ext cx="438624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роки и этапы реализации проекта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торой этап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(2012- 2013г.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Сбор и обработка материала об участниках военных действий и контртеррористических операц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Сбор и систематизация материалов о выпускнике гимназии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таршем уполномоченном УФСБ по Кемеровской области, капитане Л.В. Ковылине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геройски погибшим при выполнении контртеррористической операции в Чеченской республике в 2006 г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писок погибших беловч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лазырин Александр Виталье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лобин Вадим Юрье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ирдиямов Евгений Николае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ирпиков  Виктор Владислав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вылин Лев Виктор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динцев Анатолий Сергее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розников Руслан Виктор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знецов  Алексей  Алексее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зьмин Евгений Павл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ургалиев Константин Миннихан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лов Сергей Виктор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ипчук Алексей Владимир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отников  Вячеслав Сергее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инцов Алексей Евгень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олов Алексей Анатольевич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узовский  Дмитрий Петр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уктамышев Владимир Петр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касов Олег Иван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упа Максим Никола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Погибшие выпускники </a:t>
            </a:r>
            <a:br>
              <a:rPr sz="40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гимназии № 1 города Белово</a:t>
            </a:r>
            <a:br>
              <a:rPr sz="40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вылин Лев Викторови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узьмин Евгений Павлови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винцов Алексей Евгеньеви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2:42:50Z</dcterms:created>
  <dc:creator>1</dc:creator>
  <dc:description/>
  <dc:language>en-US</dc:language>
  <cp:lastModifiedBy>Dima</cp:lastModifiedBy>
  <dcterms:modified xsi:type="dcterms:W3CDTF">2012-03-19T14:35:09Z</dcterms:modified>
  <cp:revision>32</cp:revision>
  <dc:subject/>
  <dc:title>Герои нашего времени</dc:title>
</cp:coreProperties>
</file>