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0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858-6A3A-4A58-916D-9AB74CC3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BA63-0FBA-41ED-87D0-D4CDF0CF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5D6-4140-40CB-8AAF-87CBEE5D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8DF-7A0A-4CF2-8323-CCDF9791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927F-583B-48C9-A6DB-1DAEBF91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752-A1AA-4183-B26C-3EF509CB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6C7F-1297-42A6-AA4D-8F138882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063F-F457-44E7-8476-3C6B0534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F4C-BF18-48BE-BB4E-E135053A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FFE-0DBC-45CE-8763-EF86E59B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7EE-5A83-46DF-9F84-2E03B424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C5C-08DF-4F10-A181-9276D3C0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F641-61CF-4DD4-9F2F-6451D2D79C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Rectangle 3" descr=""/>
          <p:cNvPicPr/>
          <p:nvPr/>
        </p:nvPicPr>
        <p:blipFill>
          <a:blip r:embed="rId2"/>
          <a:stretch/>
        </p:blipFill>
        <p:spPr>
          <a:xfrm rot="1074000">
            <a:off x="685440" y="1268280"/>
            <a:ext cx="3809880" cy="269424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3" descr=""/>
          <p:cNvPicPr/>
          <p:nvPr/>
        </p:nvPicPr>
        <p:blipFill>
          <a:blip r:embed="rId3"/>
          <a:stretch/>
        </p:blipFill>
        <p:spPr>
          <a:xfrm rot="614400">
            <a:off x="4788000" y="76464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3" descr=""/>
          <p:cNvPicPr/>
          <p:nvPr/>
        </p:nvPicPr>
        <p:blipFill>
          <a:blip r:embed="rId4"/>
          <a:stretch/>
        </p:blipFill>
        <p:spPr>
          <a:xfrm rot="21089400">
            <a:off x="611280" y="4365720"/>
            <a:ext cx="3809880" cy="233820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5"/>
          <a:stretch/>
        </p:blipFill>
        <p:spPr>
          <a:xfrm rot="21183000">
            <a:off x="4648320" y="3500280"/>
            <a:ext cx="38098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Загни  правый и левый верхние углы. Как ты уже догадался, это будут уши нашей соба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2" descr="ы"/>
          <p:cNvPicPr/>
          <p:nvPr/>
        </p:nvPicPr>
        <p:blipFill>
          <a:blip r:embed="rId2"/>
          <a:stretch/>
        </p:blipFill>
        <p:spPr>
          <a:xfrm>
            <a:off x="2190600" y="2023920"/>
            <a:ext cx="47628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Полностью раскрой ушки и загни нижний угол заготовки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5892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равила ориг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5.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При сгибании не должно бы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лишних поворотов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переворотов издел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5" descr="вт"/>
          <p:cNvPicPr/>
          <p:nvPr/>
        </p:nvPicPr>
        <p:blipFill>
          <a:blip r:embed="rId2"/>
          <a:stretch/>
        </p:blipFill>
        <p:spPr>
          <a:xfrm>
            <a:off x="0" y="1916280"/>
            <a:ext cx="4762440" cy="39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2" descr="ре"/>
          <p:cNvPicPr/>
          <p:nvPr/>
        </p:nvPicPr>
        <p:blipFill>
          <a:blip r:embed="rId2"/>
          <a:stretch/>
        </p:blipFill>
        <p:spPr>
          <a:xfrm>
            <a:off x="3027240" y="1981080"/>
            <a:ext cx="308952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Для изготовления туловища собаки возьми квадратный лист бумаги,  сложи его по диагонали и развер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"/>
          <p:cNvSpPr/>
          <p:nvPr/>
        </p:nvSpPr>
        <p:spPr>
          <a:xfrm rot="2659200">
            <a:off x="4787640" y="3500280"/>
            <a:ext cx="344520" cy="801720"/>
          </a:xfrm>
          <a:custGeom>
            <a:avLst/>
            <a:gdLst>
              <a:gd name="textAreaLeft" fmla="*/ 46080 w 344520"/>
              <a:gd name="textAreaRight" fmla="*/ 298440 w 344520"/>
              <a:gd name="textAreaTop" fmla="*/ 140040 h 801720"/>
              <a:gd name="textAreaBottom" fmla="*/ 581400 h 80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6" descr="спа"/>
          <p:cNvPicPr/>
          <p:nvPr/>
        </p:nvPicPr>
        <p:blipFill>
          <a:blip r:embed="rId2"/>
          <a:stretch/>
        </p:blipFill>
        <p:spPr>
          <a:xfrm>
            <a:off x="826920" y="1700280"/>
            <a:ext cx="3084840" cy="4114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ложи внутрь угол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/>
          <p:cNvSpPr/>
          <p:nvPr/>
        </p:nvSpPr>
        <p:spPr>
          <a:xfrm rot="14988600">
            <a:off x="2993040" y="4936320"/>
            <a:ext cx="504720" cy="658800"/>
          </a:xfrm>
          <a:custGeom>
            <a:avLst/>
            <a:gdLst>
              <a:gd name="textAreaLeft" fmla="*/ 67320 w 504720"/>
              <a:gd name="textAreaRight" fmla="*/ 437400 w 504720"/>
              <a:gd name="textAreaTop" fmla="*/ 115200 h 658800"/>
              <a:gd name="textAreaBottom" fmla="*/ 477720 h 65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329840" y="6021360"/>
            <a:ext cx="68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Загни нижний угол заготовки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0" descr="пр"/>
          <p:cNvPicPr/>
          <p:nvPr/>
        </p:nvPicPr>
        <p:blipFill>
          <a:blip r:embed="rId3"/>
          <a:stretch/>
        </p:blipFill>
        <p:spPr>
          <a:xfrm>
            <a:off x="5076720" y="17002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Загни углы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3419640" y="3284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9" descr="а"/>
          <p:cNvPicPr/>
          <p:nvPr/>
        </p:nvPicPr>
        <p:blipFill>
          <a:blip r:embed="rId2"/>
          <a:stretch/>
        </p:blipFill>
        <p:spPr>
          <a:xfrm>
            <a:off x="3132000" y="1844640"/>
            <a:ext cx="308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-360"/>
            <a:ext cx="38098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клей детали. Получилась собака. Она может быть весёлой или серьёзной. Для этого собаку можно украсить, приклеить ей глаза, нос и язык, в общем, дать волю фантаз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5" descr="вт"/>
          <p:cNvPicPr/>
          <p:nvPr/>
        </p:nvPicPr>
        <p:blipFill>
          <a:blip r:embed="rId2"/>
          <a:stretch/>
        </p:blipFill>
        <p:spPr>
          <a:xfrm>
            <a:off x="4643280" y="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9" descr="а"/>
          <p:cNvPicPr/>
          <p:nvPr/>
        </p:nvPicPr>
        <p:blipFill>
          <a:blip r:embed="rId3"/>
          <a:stretch/>
        </p:blipFill>
        <p:spPr>
          <a:xfrm>
            <a:off x="4932360" y="2743200"/>
            <a:ext cx="308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Молодец! Открытка готова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равила ориг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1. Заготовка должна име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точно квадратную форм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2. Бумага для поделок долж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быть тонкой, упругой, хорош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сгибающейся, цветн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3. Линии сгибов изделия долж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тщательно проглаживать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4. Совмещение углов и сторон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процессе складывания долж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быть точны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5.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При сгибании не должно бы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лишних поворотов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переворотов издел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9" descr="на сайт"/>
          <p:cNvPicPr/>
          <p:nvPr/>
        </p:nvPicPr>
        <p:blipFill>
          <a:blip r:embed="rId2"/>
          <a:stretch/>
        </p:blipFill>
        <p:spPr>
          <a:xfrm>
            <a:off x="684360" y="1341360"/>
            <a:ext cx="34560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0000"/>
                </a:solidFill>
                <a:uFillTx/>
                <a:latin typeface="Times New Roman"/>
              </a:rPr>
              <a:t>Мое настро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Радостно. Настроение прекрасн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Комфортно. Настроение хороше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кучно. Тревожно. Настроение плох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Cloud"/>
          <p:cNvSpPr/>
          <p:nvPr/>
        </p:nvSpPr>
        <p:spPr>
          <a:xfrm>
            <a:off x="6400800" y="450864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ree"/>
          <p:cNvSpPr/>
          <p:nvPr/>
        </p:nvSpPr>
        <p:spPr>
          <a:xfrm>
            <a:off x="6781680" y="198108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1295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5640" y="4653000"/>
            <a:ext cx="2521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042920" y="1197000"/>
            <a:ext cx="6769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Работа с бумаго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Техн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"Оригами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</p:txBody>
      </p:sp>
      <p:sp>
        <p:nvSpPr>
          <p:cNvPr id="47" name="WordArt 3"/>
          <p:cNvSpPr txBox="1"/>
          <p:nvPr/>
        </p:nvSpPr>
        <p:spPr>
          <a:xfrm>
            <a:off x="2050920" y="3789360"/>
            <a:ext cx="49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50000">
                      <a:srgbClr val="008000"/>
                    </a:gs>
                    <a:gs pos="100000">
                      <a:srgbClr val="00cc99"/>
                    </a:gs>
                  </a:gsLst>
                  <a:lin ang="5400000"/>
                </a:gradFill>
                <a:latin typeface="Arial"/>
              </a:rPr>
              <a:t>Урок  технологии  в  1  классе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50000">
                    <a:srgbClr val="008000"/>
                  </a:gs>
                  <a:gs pos="100000">
                    <a:srgbClr val="00cc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8" name="Рамка 7"/>
          <p:cNvSpPr/>
          <p:nvPr/>
        </p:nvSpPr>
        <p:spPr>
          <a:xfrm>
            <a:off x="3643200" y="0"/>
            <a:ext cx="2357640" cy="42876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Оригами- японское искус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2"/>
          <a:stretch/>
        </p:blipFill>
        <p:spPr>
          <a:xfrm rot="20701200">
            <a:off x="399960" y="1973160"/>
            <a:ext cx="3556080" cy="211788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3" descr=""/>
          <p:cNvPicPr/>
          <p:nvPr/>
        </p:nvPicPr>
        <p:blipFill>
          <a:blip r:embed="rId3"/>
          <a:stretch/>
        </p:blipFill>
        <p:spPr>
          <a:xfrm rot="517800">
            <a:off x="4787640" y="1915920"/>
            <a:ext cx="3809880" cy="218916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3" descr=""/>
          <p:cNvPicPr/>
          <p:nvPr/>
        </p:nvPicPr>
        <p:blipFill>
          <a:blip r:embed="rId4"/>
          <a:stretch/>
        </p:blipFill>
        <p:spPr>
          <a:xfrm rot="20674800">
            <a:off x="755640" y="4292640"/>
            <a:ext cx="3809880" cy="201600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3" descr=""/>
          <p:cNvPicPr/>
          <p:nvPr/>
        </p:nvPicPr>
        <p:blipFill>
          <a:blip r:embed="rId5"/>
          <a:stretch/>
        </p:blipFill>
        <p:spPr>
          <a:xfrm rot="856800">
            <a:off x="4884480" y="4290840"/>
            <a:ext cx="35258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 rot="1607400">
            <a:off x="6372360" y="2060280"/>
            <a:ext cx="2412720" cy="172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3564000" y="4797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1084pic"/>
          <p:cNvPicPr/>
          <p:nvPr/>
        </p:nvPicPr>
        <p:blipFill>
          <a:blip r:embed="rId4"/>
          <a:stretch/>
        </p:blipFill>
        <p:spPr>
          <a:xfrm>
            <a:off x="3851280" y="2781360"/>
            <a:ext cx="1944720" cy="188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5"/>
          <a:stretch/>
        </p:blipFill>
        <p:spPr>
          <a:xfrm>
            <a:off x="6588000" y="0"/>
            <a:ext cx="2556000" cy="206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коробка"/>
          <p:cNvPicPr/>
          <p:nvPr/>
        </p:nvPicPr>
        <p:blipFill>
          <a:blip r:embed="rId6"/>
          <a:stretch/>
        </p:blipFill>
        <p:spPr>
          <a:xfrm rot="20893200">
            <a:off x="1979280" y="2852280"/>
            <a:ext cx="1646280" cy="170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7"/>
          <a:stretch/>
        </p:blipFill>
        <p:spPr>
          <a:xfrm rot="1903800">
            <a:off x="5796000" y="4076640"/>
            <a:ext cx="2979720" cy="19814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395280" y="549360"/>
            <a:ext cx="711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Ориг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яп., букв.: «сложенная бумага») 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евнее искусство складывания фигур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бумаги. Искусство оригами своими корнями уходит в древний Кита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и была открыта бума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" descr="2087pic"/>
          <p:cNvPicPr/>
          <p:nvPr/>
        </p:nvPicPr>
        <p:blipFill>
          <a:blip r:embed="rId8"/>
          <a:stretch/>
        </p:blipFill>
        <p:spPr>
          <a:xfrm rot="19031400">
            <a:off x="610920" y="4508280"/>
            <a:ext cx="183492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755640" y="476280"/>
            <a:ext cx="446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гадай загадку</a:t>
            </a:r>
            <a:endParaRPr b="1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1692360" y="1989000"/>
            <a:ext cx="561816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кажите, почему мой друг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пит без подушки, ест без рук.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Зимой без валенок гуляет,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А если рад - хвостом виляет?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5" name="WordArt 6"/>
          <p:cNvSpPr txBox="1"/>
          <p:nvPr/>
        </p:nvSpPr>
        <p:spPr>
          <a:xfrm>
            <a:off x="4211640" y="5300640"/>
            <a:ext cx="4103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latin typeface="Propisi"/>
              </a:rPr>
              <a:t>Собака</a:t>
            </a:r>
            <a:endParaRPr b="0" i="1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latin typeface="Propisi"/>
              <a:ea typeface="Propis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1042920" y="620640"/>
            <a:ext cx="712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3300"/>
                </a:solidFill>
                <a:latin typeface="Georgia"/>
              </a:rPr>
              <a:t>Пословицы и поговорки</a:t>
            </a:r>
            <a:endParaRPr b="1" i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003300"/>
              </a:solidFill>
              <a:latin typeface="Georgia"/>
              <a:ea typeface="Georgia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826920" y="1916280"/>
            <a:ext cx="7417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Propisi"/>
              </a:rPr>
              <a:t>Собака - друг человека</a:t>
            </a:r>
            <a:endParaRPr b="1" lang="en-US" sz="40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Propisi"/>
              </a:rPr>
              <a:t>Собака  лает, ветер  носит</a:t>
            </a:r>
            <a:endParaRPr b="1" lang="en-US" sz="40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Propisi"/>
              <a:ea typeface="Propisi"/>
            </a:endParaRPr>
          </a:p>
        </p:txBody>
      </p:sp>
      <p:pic>
        <p:nvPicPr>
          <p:cNvPr id="70" name="Picture 6" descr="дай лапу"/>
          <p:cNvPicPr/>
          <p:nvPr/>
        </p:nvPicPr>
        <p:blipFill>
          <a:blip r:embed="rId2"/>
          <a:stretch/>
        </p:blipFill>
        <p:spPr>
          <a:xfrm>
            <a:off x="4067280" y="4005360"/>
            <a:ext cx="2106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80808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Propisi"/>
              </a:rPr>
              <a:t>Оригами  "Собака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808080"/>
                  </a:gs>
                  <a:gs pos="100000">
                    <a:srgbClr val="ffff00"/>
                  </a:gs>
                </a:gsLst>
                <a:lin ang="5400000"/>
              </a:gradFill>
              <a:latin typeface="Propisi"/>
              <a:ea typeface="Propis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84360" y="31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10920" y="1981080"/>
            <a:ext cx="828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     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План рабо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1. Изготовь детали апплик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2. Приклей детали к основе откры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. Оформи открытку с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Для изготовления головы возьми квадрат из цветной бума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авила ориг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1. Заготовка должна име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точно квадратную форм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2. Бумага для поделок долж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быть тонкой, упругой, хорош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сгибающейся, цветн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3" descr="ап"/>
          <p:cNvPicPr/>
          <p:nvPr/>
        </p:nvPicPr>
        <p:blipFill>
          <a:blip r:embed="rId2"/>
          <a:stretch/>
        </p:blipFill>
        <p:spPr>
          <a:xfrm>
            <a:off x="4932360" y="1844640"/>
            <a:ext cx="36720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Положи квадрат белой стороной кверху и перегни его по диагона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2" descr="ре"/>
          <p:cNvPicPr/>
          <p:nvPr/>
        </p:nvPicPr>
        <p:blipFill>
          <a:blip r:embed="rId2"/>
          <a:stretch/>
        </p:blipFill>
        <p:spPr>
          <a:xfrm>
            <a:off x="4572000" y="1989000"/>
            <a:ext cx="4464000" cy="4104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10920" y="1916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авила ориг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3. Линии сгибов изделия долж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тщательно проглаживать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4. Совмещение углов и сторон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процессе складывания долж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быть точны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0-24T17:14:02Z</dcterms:modified>
  <cp:revision>38</cp:revision>
  <dc:subject/>
  <dc:title>PowerPoint Presentation</dc:title>
</cp:coreProperties>
</file>